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1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8D14-50F3-4E9A-BBFF-5B3F1CFB01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13D1-0DF3-433D-8C50-1FC92D2196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7CAD-7E3E-4055-BB21-9FCBEA595C4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6931-DC64-4BA4-8F33-0463A16A068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CF0F-F748-4B8C-8A54-43E9B5D3962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EAE1-606C-4B45-95A5-69EF11F4A75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9AAE-FA55-4E9E-8C3B-EA7BDF7865C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C599-2A8D-4AB4-A688-ABA081138EF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1FE8-8698-42D2-AB11-FCC0EE6E69E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EFAE-D6E3-4AD9-B1F3-C0CB7695505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280-5763-4EC0-8E0D-DC2835AE046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F3D-DA89-4D3A-B4C9-72CE9D7A42C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7A06-5D16-4D5F-88E1-D56C1A84C5A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F246-BF74-43BC-90B2-2022804C342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212A-36FE-48D7-9A15-85FFB0E625A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29BA-E23C-4D2B-8B4C-456D886D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EC8-6191-4EBF-8500-B5935491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9D33F-4771-4526-AE94-363A2E4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40B65-B238-40AA-BAF8-E84DA79D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F16A5-337B-4FAE-AD10-8DE3E0E7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5347E-CD2B-4E97-BE34-8171CCA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D05F5-1B4E-4624-9B2F-1EB17C7E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5E44E-AC5C-4A0F-8214-011B8B54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904BE-6DA0-4130-98B0-036F6677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EB6DA-1F97-4A53-A982-388867AF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6A3D3-EF28-4D0A-B578-F3C148F7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E8D84-0F09-42A5-B2ED-969896D5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269-1698-4477-B41F-374DA386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99988-98A1-4EF2-8234-BFA315E2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C965E-E946-4BBF-AB21-983B7217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D7D85-B808-4E01-ADB6-3017A0AB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291E1-C0E5-4ADC-A6FC-86EB3A47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D3110-488B-4307-8C53-9B345353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8DA7F-14BC-40B3-8B91-874B3958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81F4E-2AC9-4E6B-BA65-D659D469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1BB8E-49B9-47CD-B7A6-E744B39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2A6AC-3223-4F27-A920-8206D385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D1C18-F57D-4551-BBD9-CB38161E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A24-B9FE-4066-A5F5-E16D0CAE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FEB4E-DCF0-430A-9691-380A9811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8136E-8761-467B-A99A-D9817D03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56445-9F13-461A-8E04-36946515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8ABFC-950D-4042-AABC-D2ABB5CD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B5E20-27D9-4840-B05A-2059A166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E7CEA-6CF7-4012-B9A5-117BAFEA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EB154-9E40-4209-A288-F8F6C083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E53C7-EF79-4C69-9F20-A96FB6F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B884D-915D-46BE-97C1-510D77DD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8B2E1-E33A-44D6-B733-B786892C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9C95-7F75-4D49-AA4E-D5CF625A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C57C3-5381-4EC7-B650-6E351685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5D9B9-1FC6-4023-BC47-E86CFAC2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BF053-D4F8-4389-8F78-EE36252B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38965-A769-4431-A59D-65122432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1B0C6-ECDD-41DE-9279-70F1ED88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84E05-BCCE-4391-9C40-EC1807C9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8C0B9-17B9-4D1D-B503-5BD60B6A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3A510-BEB0-42AC-AF27-FCD9B868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54F18-2204-453F-8601-8DA987B8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35C4E-BB1D-4D16-B818-72E3838C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13EB-F239-4F46-A36D-A073F1EE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CA8C9-D821-4BF6-AE09-919080A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5B103-DC04-4B54-AA8A-0FA60F7D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36800-AF18-4453-AA23-74566DA9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1B0AF-7C3E-40F6-B97E-1B447280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71E0E-4F9E-4498-BFF7-D52D2511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05EB-FD35-4ECF-B33C-A46022EB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D0A3-6AB9-4813-B3C7-25CAAF92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BD43-150A-4E35-8DF5-2C095203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5E82-9BD3-43B4-9396-9821E2CA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E662-196E-4730-AD07-FF2BD93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9D7-73A4-4746-98C9-3D329CDE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B35A-3F49-4EED-9ED8-6E7A05A3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C89B-6181-4AFE-92BE-3F94CB2A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2EAA-7AF7-4120-8F53-A70EB14E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CEA8-9853-48DE-9A89-3DB7BB09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E55D-5AC9-4646-90EC-E05E5241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154A-DC3D-4893-AAC3-98BC04D3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946B-7729-4DA6-880D-DC41B281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EE3C-ECD6-4ABD-8F3F-42E4B32E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255E-3469-45B0-B94A-D9BAEDFC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9318-98FF-4AD0-931E-9A943310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04F-8EFD-4EF1-BF33-C6333A94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7B64-AC31-4EA1-B1D3-9C18A804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5739-1925-4397-B845-D2FABD5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A44F-C1B7-4822-BFFB-5647FC94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D9CBA-F6C5-4934-A626-BE50FD45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2DCC-7C2B-44F3-A233-AC39DADC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5257C-5169-4A80-BB6C-3B0D00A0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6BB7-2149-477A-8FD3-2988819B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29603-159F-4ABA-96C3-40A079C3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3C32-B897-40E8-9755-B13DC7DC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A466-03A1-4D60-8CF9-67C3BF6B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0B2C-E04D-4E73-8741-9626C33E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0A2BE-77BC-4EA4-8F14-FDF2D08F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E47E4-7190-4805-93DF-DCCCAAC9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35F05-FE34-41F8-B3FB-FEE6F119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5777-0123-48AB-84EB-AC7F276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EA8EF-76A5-45A2-BD96-4E1F2D6F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B8C25-2F97-424A-882E-1FBC98C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E6926-6AF3-4921-95FB-7F95F9FE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F2826-9A8F-401B-9194-69BCE1F0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3EDA-8BDB-4F3F-A854-DF3C943B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58EA-6401-43BF-90FD-7E83CDC0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2CB-9D11-4EC9-8457-EBC326D0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B6512-BD3E-4597-B6D8-B3478D1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71D9-D2CA-4404-9E0F-29A6B7DA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409A1-BE39-4D6A-8B9B-36B3E72C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8C288-A474-48D1-91EE-22C82101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0DBEA-A09E-45C1-9D34-2E395525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EB6F8-E3DE-4EF5-B41E-1ED26560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E6E29-A4AC-4C33-BCD8-FDC16202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8B84A-7729-4176-886D-07972DBC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29E09-0034-4333-B5BF-974DB33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3C11-C05A-45A6-8325-A634255B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D419-7179-4A23-9631-3B7F2169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84455-87FC-4339-9D81-632F4966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DC70F-37F2-4218-9362-33194A46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A8113-F493-4E28-A03B-F7BCC33D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A93F6-EC07-42A3-BBE1-71AEAD8B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300B1-7790-4A02-AFD9-6EC72E43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BE5F6-A7C9-407C-BA4C-58541485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14538-FB21-43EB-825E-B17AA933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95C93-7FAA-437E-B2B6-97290733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4084-A676-4407-9460-0E7BFC71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6CD5C-E465-4FCD-B99C-8BD69F52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E86-F38A-42BC-845E-A9C1D74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BD2B5-BAB9-4B9A-9456-E2E6972B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29C04-EFC4-4886-984F-868723AB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C2AB3-D30E-4C44-BBB8-2E8283FA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4CF00-3ABF-48D1-8F1F-D066CCDB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F5EAD-9C09-4550-81E6-B824FA8C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FD6DE-AC0A-42B3-854A-E910AF70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3DE49-A06B-435E-B361-137101CD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EFD8B-EADF-4C36-AA19-0559A902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467A5-3A80-428B-A121-F234C45F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05A57-DC7E-4118-923E-D13DA16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B14-CFF4-42D0-8CC6-EFD129DC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B3750-CAC2-4045-B872-5BB16BB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4A62-086C-41B9-904F-C7497B6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9FA8A-03DA-4666-9112-45B37181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4A201-1963-44E9-A609-23E177CB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E1876-47AD-4783-B541-7107746A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41364-D844-4BDB-BD1B-4B678E16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35D6F-D594-4F52-B58C-7BA9AEF7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139D9-01D7-45CF-A02F-18CFCB6A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FDBA1-B64B-4FEB-9C6C-2259001C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45BD2-3E1A-4479-8DB3-C8BD0A66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734-4771-47BD-B2CE-DAFFE739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534F4-AE10-472D-A2B8-A2FC0CBE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0E83A-8E1B-4279-A2A6-5E729E4F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4D017-18C2-4A77-BB57-DB8BDFA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039B2-AAB7-41DF-9B4A-357D410A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0A786-0C30-4620-B310-F269564A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E8FE-640E-4F04-8DD2-3C7D9638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C8FE2-BCDF-423E-A6C9-96CA0C8A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3E64F-BA2B-4ACA-9904-4FB3CA9E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136FE-FF43-40FC-BE5B-74E75D5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FA0D7-6CB7-40D5-B9C3-8841B78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2FF9-1A50-46C8-91C1-64AB84559203}" type="datetime">
              <a:rPr b="0" lang="en-US" sz="1200" spc="-1" strike="noStrike">
                <a:solidFill>
                  <a:srgbClr val="333333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0F6-2520-44B5-8DC6-E8C37F6FA36C}" type="slidenum">
              <a:rPr b="0" lang="en-GB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0DF4-994C-4748-B5CA-DC9961BDF03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1321-D439-4C5C-AE28-C86A25949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6" descr="Overlay-FullBackground.jpg"/>
          <p:cNvPicPr/>
          <p:nvPr/>
        </p:nvPicPr>
        <p:blipFill>
          <a:blip r:embed="rId2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overlay-ruleShadow.png"/>
          <p:cNvPicPr/>
          <p:nvPr/>
        </p:nvPicPr>
        <p:blipFill>
          <a:blip r:embed="rId3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CD49-4289-4D42-8B7E-FEA7565F4C21}" type="datetime">
              <a:rPr b="0" lang="en-US" sz="1200" spc="-1" strike="noStrike">
                <a:solidFill>
                  <a:srgbClr val="000000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57C4-F9CF-4AFB-BAFC-B6A2DC7065FB}" type="slidenum">
              <a:rPr b="0" lang="en-GB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C39E-6EDA-4F45-BB51-D267852D36B0}" type="datetime">
              <a:rPr b="0" lang="en-US" sz="1200" spc="-1" strike="noStrike">
                <a:solidFill>
                  <a:srgbClr val="333333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976A-26ED-4C97-81F2-8E2F7ECA12FD}" type="slidenum">
              <a:rPr b="0" lang="ar-S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2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3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328-DC44-4B2B-B78D-034414603A7A}" type="datetime">
              <a:rPr b="0" lang="en-US" sz="1200" spc="-1" strike="noStrike">
                <a:solidFill>
                  <a:srgbClr val="333333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9C71-305C-4069-8BE1-CCAA545FF016}" type="slidenum">
              <a:rPr b="0" lang="en-GB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2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3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0A6-88DC-48D6-89CF-96440C113CBA}" type="datetime">
              <a:rPr b="0" lang="en-US" sz="1200" spc="-1" strike="noStrike">
                <a:solidFill>
                  <a:srgbClr val="333333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0DE4-93ED-4A1C-8FF5-2FFEE03B4D86}" type="slidenum">
              <a:rPr b="0" lang="en-GB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ruleShadow.png"/>
          <p:cNvPicPr/>
          <p:nvPr/>
        </p:nvPicPr>
        <p:blipFill>
          <a:blip r:embed="rId2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FullBackground.jpg"/>
          <p:cNvPicPr/>
          <p:nvPr/>
        </p:nvPicPr>
        <p:blipFill>
          <a:blip r:embed="rId3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433B-641F-4CE9-A2EB-E3FDE73A626C}" type="datetime">
              <a:rPr b="0" lang="en-US" sz="1200" spc="-1" strike="noStrike">
                <a:solidFill>
                  <a:srgbClr val="333333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742B-A637-45EB-9430-CA219889ED5E}" type="slidenum">
              <a:rPr b="0" lang="en-GB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2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3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F502-F86E-4BA7-820C-F43E7414FBFA}" type="datetime">
              <a:rPr b="0" lang="en-US" sz="1200" spc="-1" strike="noStrike">
                <a:solidFill>
                  <a:srgbClr val="333333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1FC4-F2CE-4AF6-93A8-78DEC6B5D7B2}" type="slidenum">
              <a:rPr b="0" lang="en-GB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FullBackground.jpg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9F67-58FC-476D-B9A2-44C5B83D1CFC}" type="datetime">
              <a:rPr b="0" lang="en-US" sz="1200" spc="-1" strike="noStrike">
                <a:solidFill>
                  <a:srgbClr val="333333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1BF9-CCF9-478B-A31D-FA958D75DAAA}" type="slidenum">
              <a:rPr b="0" lang="en-GB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6" descr="Overlay-FullBackground.jpg"/>
          <p:cNvPicPr/>
          <p:nvPr/>
        </p:nvPicPr>
        <p:blipFill>
          <a:blip r:embed="rId2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overlay-ruleShadow.png"/>
          <p:cNvPicPr/>
          <p:nvPr/>
        </p:nvPicPr>
        <p:blipFill>
          <a:blip r:embed="rId3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D24A-B33B-4EC1-B3AC-1350D109E5B1}" type="datetime">
              <a:rPr b="0" lang="en-US" sz="1200" spc="-1" strike="noStrike">
                <a:solidFill>
                  <a:srgbClr val="000000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659C-8B65-4A87-A122-F36358205D49}" type="slidenum">
              <a:rPr b="0" lang="en-GB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6" descr="Overlay-FullBackground.jpg"/>
          <p:cNvPicPr/>
          <p:nvPr/>
        </p:nvPicPr>
        <p:blipFill>
          <a:blip r:embed="rId2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overlay-ruleShadow.png"/>
          <p:cNvPicPr/>
          <p:nvPr/>
        </p:nvPicPr>
        <p:blipFill>
          <a:blip r:embed="rId3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BC58-BC66-4830-8B54-9B9F786C335F}" type="datetime">
              <a:rPr b="0" lang="en-US" sz="1200" spc="-1" strike="noStrike">
                <a:solidFill>
                  <a:srgbClr val="000000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0FB1-D5A1-46B2-B84E-DB8CD43D571A}" type="slidenum">
              <a:rPr b="0" lang="en-GB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Overlay-FullBackground.jpg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54BB-13C9-42B5-99A5-8FADFB8E954E}" type="datetime">
              <a:rPr b="0" lang="en-US" sz="1200" spc="-1" strike="noStrike">
                <a:solidFill>
                  <a:srgbClr val="333333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D148-9652-4FF6-B92D-F7ECA85B325C}" type="slidenum">
              <a:rPr b="0" lang="en-GB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UCh1V7VSrI" TargetMode="External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60" y="2349000"/>
            <a:ext cx="9147240" cy="17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fffff"/>
                </a:solidFill>
                <a:latin typeface="Britannic Bold"/>
              </a:rPr>
              <a:t>PerSys</a:t>
            </a:r>
            <a:br>
              <a:rPr sz="4500"/>
            </a:br>
            <a:r>
              <a:rPr b="0" lang="en-GB" sz="4500" spc="-1" strike="noStrike">
                <a:solidFill>
                  <a:srgbClr val="ffffff"/>
                </a:solidFill>
                <a:latin typeface="Britannic Bold"/>
              </a:rPr>
              <a:t>Adult Bone Injection Gun</a:t>
            </a:r>
            <a:br>
              <a:rPr sz="4500"/>
            </a:br>
            <a:r>
              <a:rPr b="0" lang="en-GB" sz="4500" spc="-1" strike="noStrike">
                <a:solidFill>
                  <a:srgbClr val="ffffff"/>
                </a:solidFill>
                <a:latin typeface="Britannic Bold"/>
              </a:rPr>
              <a:t>    B.I.G.</a:t>
            </a:r>
            <a:endParaRPr b="0" lang="en-US" sz="45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516" name="Subtitle 2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7596360" cy="17622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Perpetua Titling MT"/>
              </a:rPr>
              <a:t>Adult Bone Injection Gun</a:t>
            </a:r>
            <a:br>
              <a:rPr sz="1800"/>
            </a:br>
            <a:r>
              <a:rPr b="0" lang="en-AU" sz="1800" spc="-1" strike="noStrike">
                <a:solidFill>
                  <a:srgbClr val="ffffff"/>
                </a:solidFill>
                <a:latin typeface="Perpetua Titling MT"/>
              </a:rPr>
              <a:t>How it works</a:t>
            </a:r>
            <a:endParaRPr b="0" lang="en-US" sz="1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55280" y="2852280"/>
            <a:ext cx="3714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sto MT"/>
              </a:rPr>
              <a:t>Trocar and Cannula contained within blue plastic barrel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sto MT"/>
              </a:rPr>
              <a:t>Powered by spring loaded piston in white plastic handle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sto MT"/>
              </a:rPr>
              <a:t>Trocar and cannula propelled from barrel, into bone, when device is triggered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547" name="Text Placeholder 2" descr=""/>
          <p:cNvPicPr/>
          <p:nvPr/>
        </p:nvPicPr>
        <p:blipFill>
          <a:blip r:embed="rId1"/>
          <a:stretch/>
        </p:blipFill>
        <p:spPr>
          <a:xfrm>
            <a:off x="5867280" y="249228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548" name="Text Placeholder 2" descr=""/>
          <p:cNvPicPr/>
          <p:nvPr/>
        </p:nvPicPr>
        <p:blipFill>
          <a:blip r:embed="rId2"/>
          <a:stretch/>
        </p:blipFill>
        <p:spPr>
          <a:xfrm>
            <a:off x="5796000" y="4581360"/>
            <a:ext cx="2139840" cy="20703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5837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Perpetua Titling MT"/>
              </a:rPr>
              <a:t>How to use 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Perpetua Titling MT"/>
              </a:rPr>
              <a:t>the ADULT bone injection gun</a:t>
            </a:r>
            <a:endParaRPr b="0" lang="en-US" sz="28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551" name="Text Placeholder 2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5837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Perpetua Titling MT"/>
              </a:rPr>
              <a:t>You will need …….</a:t>
            </a:r>
            <a:endParaRPr b="0" lang="en-US" sz="32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560320"/>
            <a:ext cx="75837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sto MT"/>
              </a:rPr>
              <a:t>Adult Bone Injection Gun</a:t>
            </a:r>
            <a:endParaRPr b="0" lang="en-US" sz="1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sto MT"/>
              </a:rPr>
              <a:t>Disposable dressing pack</a:t>
            </a:r>
            <a:endParaRPr b="0" lang="en-US" sz="1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sto MT"/>
              </a:rPr>
              <a:t>Skin clean up solution</a:t>
            </a:r>
            <a:endParaRPr b="0" lang="en-US" sz="1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sto MT"/>
              </a:rPr>
              <a:t>Gloves</a:t>
            </a:r>
            <a:endParaRPr b="0" lang="en-US" sz="1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sto MT"/>
              </a:rPr>
              <a:t>Adhesive surgical tape (1 cm wide)</a:t>
            </a:r>
            <a:endParaRPr b="0" lang="en-US" sz="1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sto MT"/>
              </a:rPr>
              <a:t>10ml syringe</a:t>
            </a:r>
            <a:endParaRPr b="0" lang="en-US" sz="1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sto MT"/>
              </a:rPr>
              <a:t>10ml Normal Saline</a:t>
            </a:r>
            <a:endParaRPr b="0" lang="en-US" sz="1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sto MT"/>
              </a:rPr>
              <a:t>Giving Set</a:t>
            </a:r>
            <a:endParaRPr b="0" lang="en-US" sz="1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alisto MT"/>
              </a:rPr>
              <a:t>IV Fluid</a:t>
            </a:r>
            <a:endParaRPr b="0" lang="en-US" sz="1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Location 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4030560" cy="34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Place a rolled towel under knee with the foot facing outward .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Find</a:t>
            </a: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 the outset point :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Tibial Tuberosity-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A rounded protrusion       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distal to the patella.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*Locate the Tuberosity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and feel it on your leg .</a:t>
            </a:r>
            <a:r>
              <a:rPr b="0" lang="en-GB" sz="1800" spc="-1" strike="noStrike">
                <a:solidFill>
                  <a:srgbClr val="ffffff"/>
                </a:solidFill>
                <a:latin typeface="Calisto MT"/>
                <a:ea typeface="Tahoma"/>
              </a:rPr>
              <a:t>    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8" name="Line 4"/>
          <p:cNvSpPr/>
          <p:nvPr/>
        </p:nvSpPr>
        <p:spPr>
          <a:xfrm flipH="1">
            <a:off x="6586560" y="692280"/>
            <a:ext cx="2308320" cy="31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5"/>
          <p:cNvSpPr/>
          <p:nvPr/>
        </p:nvSpPr>
        <p:spPr>
          <a:xfrm flipH="1">
            <a:off x="6730560" y="2565360"/>
            <a:ext cx="1011240" cy="10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6084720" y="3933720"/>
            <a:ext cx="4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8" descr="location1"/>
          <p:cNvPicPr/>
          <p:nvPr/>
        </p:nvPicPr>
        <p:blipFill>
          <a:blip r:embed="rId1"/>
          <a:stretch/>
        </p:blipFill>
        <p:spPr>
          <a:xfrm>
            <a:off x="4643280" y="2637000"/>
            <a:ext cx="4143600" cy="350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location2"/>
          <p:cNvPicPr/>
          <p:nvPr/>
        </p:nvPicPr>
        <p:blipFill>
          <a:blip r:embed="rId1"/>
          <a:stretch/>
        </p:blipFill>
        <p:spPr>
          <a:xfrm>
            <a:off x="5003640" y="2781360"/>
            <a:ext cx="3905280" cy="37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Location 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4537080" cy="334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From the </a:t>
            </a:r>
            <a:r>
              <a:rPr b="1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Tibial Tuberosity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Go approx. 2 cm (1 inch) to the inner part of the leg  to find a flat site.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This is the </a:t>
            </a:r>
            <a:r>
              <a:rPr b="1" i="1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Tibial Plateau</a:t>
            </a:r>
            <a:r>
              <a:rPr b="0" i="1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Footer Placeholder 7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 flipV="1">
            <a:off x="5940360" y="42188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7"/>
          <p:cNvSpPr/>
          <p:nvPr/>
        </p:nvSpPr>
        <p:spPr>
          <a:xfrm flipH="1">
            <a:off x="6516720" y="3573360"/>
            <a:ext cx="71280" cy="360360"/>
          </a:xfrm>
          <a:prstGeom prst="line">
            <a:avLst/>
          </a:prstGeom>
          <a:ln w="44280">
            <a:solidFill>
              <a:srgbClr val="9b6c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"/>
          <p:cNvPicPr/>
          <p:nvPr/>
        </p:nvPicPr>
        <p:blipFill>
          <a:blip r:embed="rId1"/>
          <a:stretch/>
        </p:blipFill>
        <p:spPr>
          <a:xfrm>
            <a:off x="4788000" y="2852640"/>
            <a:ext cx="4032000" cy="364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Location 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78920" y="4076640"/>
            <a:ext cx="8713800" cy="19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Calisto MT"/>
              </a:rPr>
              <a:t>             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3" name="Footer Placeholder 7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0" y="3068640"/>
            <a:ext cx="450072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From</a:t>
            </a:r>
            <a:r>
              <a:rPr b="0" i="1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Tibial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plateau</a:t>
            </a:r>
            <a:r>
              <a:rPr b="0" i="1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Go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 UP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 approx. 1cm (0.5 inch) toward the pat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ahoma"/>
              </a:rPr>
              <a:t>*You are looking for the thinnest  portion of the cort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 flipV="1">
            <a:off x="6372360" y="3860280"/>
            <a:ext cx="431640" cy="73080"/>
          </a:xfrm>
          <a:prstGeom prst="line">
            <a:avLst/>
          </a:prstGeom>
          <a:ln w="44280">
            <a:solidFill>
              <a:srgbClr val="9b6c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27360" bIns="27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5837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Perpetua Titling MT"/>
              </a:rPr>
              <a:t>Correct location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Perpetua Titling MT"/>
              </a:rPr>
              <a:t>proximal tibia</a:t>
            </a:r>
            <a:endParaRPr b="0" lang="en-US" sz="28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578" name="Text Placeholder 2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4032360" cy="274608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Location 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0" y="2382480"/>
            <a:ext cx="4643280" cy="498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Summary </a:t>
            </a: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(adult patient):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From Tibial Tuberosity Go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approx. 2 cm (1 inch) </a:t>
            </a:r>
            <a:r>
              <a:rPr b="1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IN</a:t>
            </a: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(inner leg).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And approx. 1 cm (0.5 inch)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UP</a:t>
            </a: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 (toward patella).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*Try to find the insertion           site on your leg.       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2" name="Footer Placeholder 9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4"/>
          <p:cNvSpPr/>
          <p:nvPr/>
        </p:nvSpPr>
        <p:spPr>
          <a:xfrm flipH="1">
            <a:off x="6586560" y="692280"/>
            <a:ext cx="2308320" cy="31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 flipH="1">
            <a:off x="6730560" y="2565360"/>
            <a:ext cx="1011240" cy="10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6"/>
          <p:cNvSpPr/>
          <p:nvPr/>
        </p:nvSpPr>
        <p:spPr>
          <a:xfrm flipH="1" flipV="1">
            <a:off x="6298920" y="4147920"/>
            <a:ext cx="145800" cy="14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7"/>
          <p:cNvSpPr/>
          <p:nvPr/>
        </p:nvSpPr>
        <p:spPr>
          <a:xfrm flipH="1" flipV="1">
            <a:off x="6268680" y="4217760"/>
            <a:ext cx="204840" cy="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9" descr="location-ABC"/>
          <p:cNvPicPr/>
          <p:nvPr/>
        </p:nvPicPr>
        <p:blipFill>
          <a:blip r:embed="rId1"/>
          <a:stretch/>
        </p:blipFill>
        <p:spPr>
          <a:xfrm>
            <a:off x="4824360" y="3284640"/>
            <a:ext cx="4319640" cy="31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26560" y="1268280"/>
            <a:ext cx="753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Perpetua Titling MT"/>
              </a:rPr>
              <a:t>IMPORTAN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3141720"/>
            <a:ext cx="75834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alisto MT"/>
              </a:rPr>
              <a:t>The Bone Injection Gun must be held </a:t>
            </a:r>
            <a:r>
              <a:rPr b="1" lang="en-AU" sz="2400" spc="-1" strike="noStrike" u="sng">
                <a:solidFill>
                  <a:srgbClr val="333333"/>
                </a:solidFill>
                <a:uFillTx/>
                <a:latin typeface="Calisto MT"/>
              </a:rPr>
              <a:t>FIRMLY</a:t>
            </a:r>
            <a:r>
              <a:rPr b="0" lang="en-AU" sz="2400" spc="-1" strike="noStrike">
                <a:solidFill>
                  <a:srgbClr val="333333"/>
                </a:solidFill>
                <a:latin typeface="Calisto MT"/>
              </a:rPr>
              <a:t> by the </a:t>
            </a:r>
            <a:r>
              <a:rPr b="0" lang="en-AU" sz="2400" spc="-1" strike="noStrike">
                <a:solidFill>
                  <a:srgbClr val="0000ff"/>
                </a:solidFill>
                <a:latin typeface="Calisto MT"/>
              </a:rPr>
              <a:t>blue</a:t>
            </a:r>
            <a:r>
              <a:rPr b="0" lang="en-AU" sz="2400" spc="-1" strike="noStrike">
                <a:solidFill>
                  <a:srgbClr val="333333"/>
                </a:solidFill>
                <a:latin typeface="Calisto MT"/>
              </a:rPr>
              <a:t> barrel against the selected insertion site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alisto MT"/>
              </a:rPr>
              <a:t>It is important that the correct insertion site is selected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alisto MT"/>
              </a:rPr>
              <a:t>You are aiming to penetrate the </a:t>
            </a:r>
            <a:r>
              <a:rPr b="1" lang="en-AU" sz="2400" spc="-1" strike="noStrike" u="sng">
                <a:solidFill>
                  <a:srgbClr val="333333"/>
                </a:solidFill>
                <a:uFillTx/>
                <a:latin typeface="Calisto MT"/>
              </a:rPr>
              <a:t>THINNEST</a:t>
            </a:r>
            <a:r>
              <a:rPr b="0" lang="en-AU" sz="2400" spc="-1" strike="noStrike">
                <a:solidFill>
                  <a:srgbClr val="333333"/>
                </a:solidFill>
                <a:latin typeface="Calisto MT"/>
              </a:rPr>
              <a:t> part of the bony cortex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Perpetua Titling MT"/>
              </a:rPr>
              <a:t>How NOT to Use the B.I.G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03640" y="2707920"/>
            <a:ext cx="37166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The selected site is too distal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Too anterior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Not held firmly against insertion site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Insufficient pressure whilst triggering the B.I.G.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321264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on the below link to view the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33926"/>
                </a:solidFill>
                <a:uFillTx/>
                <a:latin typeface="Arial"/>
                <a:hlinkClick r:id="rId1"/>
              </a:rPr>
              <a:t>How NOT to use the B.I.G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ternet connection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678800" cy="22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Perpetua Titling MT"/>
              </a:rPr>
              <a:t>ANZRC Guidelines</a:t>
            </a: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Perpetua Titling MT"/>
              </a:rPr>
              <a:t>Guideline 11.2</a:t>
            </a: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Perpetua Titling MT"/>
              </a:rPr>
              <a:t>Protocols for Adult Advance Life Support</a:t>
            </a:r>
            <a:endParaRPr b="0" lang="en-US" sz="40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835280" y="3645000"/>
            <a:ext cx="652752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33"/>
                </a:solidFill>
                <a:latin typeface="Calisto MT"/>
              </a:rPr>
              <a:t>“</a:t>
            </a:r>
            <a:r>
              <a:rPr b="1" lang="en-AU" sz="2400" spc="-1" strike="noStrike">
                <a:solidFill>
                  <a:srgbClr val="333333"/>
                </a:solidFill>
                <a:latin typeface="Calisto MT"/>
              </a:rPr>
              <a:t>Obtain Intravenous or Intraosseous Access” (Class A: LOE 2)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33"/>
                </a:solidFill>
                <a:latin typeface="Calisto MT"/>
              </a:rPr>
              <a:t>Dec 2010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Footer Placeholder 1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4284720" y="508464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Posterior-Distal metaphysis of the Rad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4356000" y="278136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1-2 cm proximally to the base of the Medial Malleolus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4" descr="Medical Malleolus"/>
          <p:cNvPicPr/>
          <p:nvPr/>
        </p:nvPicPr>
        <p:blipFill>
          <a:blip r:embed="rId1"/>
          <a:stretch/>
        </p:blipFill>
        <p:spPr>
          <a:xfrm>
            <a:off x="395280" y="1844640"/>
            <a:ext cx="3097080" cy="27766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Radius"/>
          <p:cNvPicPr/>
          <p:nvPr/>
        </p:nvPicPr>
        <p:blipFill>
          <a:blip r:embed="rId2"/>
          <a:stretch/>
        </p:blipFill>
        <p:spPr>
          <a:xfrm>
            <a:off x="395280" y="4643280"/>
            <a:ext cx="3097080" cy="221472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6"/>
          <p:cNvSpPr/>
          <p:nvPr/>
        </p:nvSpPr>
        <p:spPr>
          <a:xfrm>
            <a:off x="3708360" y="155736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ahoma"/>
              </a:rPr>
              <a:t>Alternate Adult Loca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1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0" y="1944720"/>
            <a:ext cx="460692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Draw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the imaginary line connecting the Acromion and the Coracoid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From the midpoint of the line,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go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 2 fingers Distally (This is the Humeral He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Tahoma"/>
                <a:ea typeface="Tahoma"/>
              </a:rPr>
              <a:t>In certain patients, in additio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ahoma"/>
                <a:ea typeface="Tahoma"/>
              </a:rPr>
              <a:t>Go</a:t>
            </a:r>
            <a:r>
              <a:rPr b="0" i="1" lang="en-GB" sz="2600" spc="-1" strike="noStrike">
                <a:solidFill>
                  <a:srgbClr val="ffffff"/>
                </a:solidFill>
                <a:latin typeface="Tahoma"/>
                <a:ea typeface="Tahoma"/>
              </a:rPr>
              <a:t> one finger Anteriorly (Toward the Ch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3"/>
          <p:cNvSpPr/>
          <p:nvPr/>
        </p:nvSpPr>
        <p:spPr>
          <a:xfrm flipH="1">
            <a:off x="6640560" y="692280"/>
            <a:ext cx="2254320" cy="31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4"/>
          <p:cNvSpPr/>
          <p:nvPr/>
        </p:nvSpPr>
        <p:spPr>
          <a:xfrm flipH="1">
            <a:off x="6754320" y="2565360"/>
            <a:ext cx="987480" cy="10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5"/>
          <p:cNvSpPr/>
          <p:nvPr/>
        </p:nvSpPr>
        <p:spPr>
          <a:xfrm flipH="1" flipV="1">
            <a:off x="6302520" y="4147920"/>
            <a:ext cx="142560" cy="14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6"/>
          <p:cNvSpPr/>
          <p:nvPr/>
        </p:nvSpPr>
        <p:spPr>
          <a:xfrm flipH="1" flipV="1">
            <a:off x="6273720" y="4217760"/>
            <a:ext cx="200160" cy="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8" descr="location-summary"/>
          <p:cNvPicPr/>
          <p:nvPr/>
        </p:nvPicPr>
        <p:blipFill>
          <a:blip r:embed="rId1"/>
          <a:stretch/>
        </p:blipFill>
        <p:spPr>
          <a:xfrm>
            <a:off x="5148360" y="2781360"/>
            <a:ext cx="3527280" cy="37926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324000" y="134136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ad of Humer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1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0" y="3357720"/>
            <a:ext cx="464328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*Once located the insertion site, confirm the exact position, by verifying the Greater Tubercle’s outer margins.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3"/>
          <p:cNvSpPr/>
          <p:nvPr/>
        </p:nvSpPr>
        <p:spPr>
          <a:xfrm flipH="1">
            <a:off x="6586560" y="692280"/>
            <a:ext cx="2308320" cy="31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4"/>
          <p:cNvSpPr/>
          <p:nvPr/>
        </p:nvSpPr>
        <p:spPr>
          <a:xfrm flipH="1">
            <a:off x="6730560" y="2565360"/>
            <a:ext cx="1011240" cy="10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5"/>
          <p:cNvSpPr/>
          <p:nvPr/>
        </p:nvSpPr>
        <p:spPr>
          <a:xfrm flipH="1" flipV="1">
            <a:off x="6298920" y="4147920"/>
            <a:ext cx="145800" cy="14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6"/>
          <p:cNvSpPr/>
          <p:nvPr/>
        </p:nvSpPr>
        <p:spPr>
          <a:xfrm flipH="1" flipV="1">
            <a:off x="6268680" y="4217760"/>
            <a:ext cx="204840" cy="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9" descr="location-summary2"/>
          <p:cNvPicPr/>
          <p:nvPr/>
        </p:nvPicPr>
        <p:blipFill>
          <a:blip r:embed="rId1"/>
          <a:stretch/>
        </p:blipFill>
        <p:spPr>
          <a:xfrm>
            <a:off x="4859280" y="2565360"/>
            <a:ext cx="3809880" cy="40006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Perpetua Titling MT"/>
              </a:rPr>
              <a:t>Setting Insertion depth</a:t>
            </a:r>
            <a:endParaRPr b="0" lang="en-US" sz="2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755280" y="2852280"/>
            <a:ext cx="3714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sto MT"/>
              </a:rPr>
              <a:t>Adjust blue barrel to determine depth of cannula insertion according to insertion site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sto MT"/>
              </a:rPr>
              <a:t>These sites are clearly marked on the B.I.G.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sto MT"/>
              </a:rPr>
              <a:t>Proximal tibia, malleolus, distal radius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sto MT"/>
              </a:rPr>
              <a:t>Proximal tibia setting applies for anterior humerus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21" name="Text Placeholder 2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1555920" cy="2071800"/>
          </a:xfrm>
          <a:prstGeom prst="rect">
            <a:avLst/>
          </a:prstGeom>
          <a:ln w="0">
            <a:noFill/>
          </a:ln>
        </p:spPr>
      </p:pic>
      <p:pic>
        <p:nvPicPr>
          <p:cNvPr id="622" name="Text Placeholder 2" descr=""/>
          <p:cNvPicPr/>
          <p:nvPr/>
        </p:nvPicPr>
        <p:blipFill>
          <a:blip r:embed="rId2"/>
          <a:stretch/>
        </p:blipFill>
        <p:spPr>
          <a:xfrm>
            <a:off x="5867280" y="4653000"/>
            <a:ext cx="1557360" cy="20732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583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Positionin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Trajan Pro"/>
                <a:ea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3714480" cy="299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sto MT"/>
                <a:ea typeface="Tahoma"/>
              </a:rPr>
              <a:t>With one hand holding</a:t>
            </a:r>
            <a:endParaRPr b="0" lang="en-US" sz="29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sto MT"/>
                <a:ea typeface="Tahoma"/>
              </a:rPr>
              <a:t>blue barrel </a:t>
            </a:r>
            <a:r>
              <a:rPr b="1" lang="en-GB" sz="2900" spc="-1" strike="noStrike" u="sng">
                <a:solidFill>
                  <a:srgbClr val="ffffff"/>
                </a:solidFill>
                <a:uFillTx/>
                <a:latin typeface="Calisto MT"/>
                <a:ea typeface="Tahoma"/>
              </a:rPr>
              <a:t>firmly</a:t>
            </a:r>
            <a:endParaRPr b="0" lang="en-US" sz="29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sto MT"/>
                <a:ea typeface="Tahoma"/>
              </a:rPr>
              <a:t>against the selected </a:t>
            </a:r>
            <a:endParaRPr b="0" lang="en-US" sz="29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sto MT"/>
                <a:ea typeface="Tahoma"/>
              </a:rPr>
              <a:t>insertion site……</a:t>
            </a:r>
            <a:endParaRPr b="0" lang="en-US" sz="29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4646160" y="1828440"/>
            <a:ext cx="3716280" cy="4297320"/>
          </a:xfrm>
          <a:prstGeom prst="rect">
            <a:avLst/>
          </a:prstGeom>
          <a:ln w="0">
            <a:noFill/>
          </a:ln>
        </p:spPr>
      </p:pic>
      <p:sp>
        <p:nvSpPr>
          <p:cNvPr id="627" name="Footer Placeholder 5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Picture 5" descr="position"/>
          <p:cNvPicPr/>
          <p:nvPr/>
        </p:nvPicPr>
        <p:blipFill>
          <a:blip r:embed="rId2"/>
          <a:stretch/>
        </p:blipFill>
        <p:spPr>
          <a:xfrm>
            <a:off x="4716360" y="1844640"/>
            <a:ext cx="4162680" cy="372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Safety latch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24000" y="2850840"/>
            <a:ext cx="4386240" cy="297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Pull out the safety latch by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squeezing the two ends together 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*Do not discard, it will later be used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2" name="Footer Placeholder 5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5" descr="safety_latch"/>
          <p:cNvPicPr/>
          <p:nvPr/>
        </p:nvPicPr>
        <p:blipFill>
          <a:blip r:embed="rId1"/>
          <a:stretch/>
        </p:blipFill>
        <p:spPr>
          <a:xfrm>
            <a:off x="5038560" y="2905200"/>
            <a:ext cx="4105440" cy="39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Perpetua Titling MT"/>
              </a:rPr>
              <a:t>Importan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26920" y="3357360"/>
            <a:ext cx="75837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The red safety latch is 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Calisto MT"/>
              </a:rPr>
              <a:t>NEVER</a:t>
            </a: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 removed </a:t>
            </a:r>
            <a:r>
              <a:rPr b="1" lang="en-AU" sz="2400" spc="-1" strike="noStrike" u="sng">
                <a:solidFill>
                  <a:srgbClr val="ffffff"/>
                </a:solidFill>
                <a:uFillTx/>
                <a:latin typeface="Calisto MT"/>
              </a:rPr>
              <a:t>before</a:t>
            </a: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 the B.I.G. is correctly positioned at the insertion site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Do not discard the safety catch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Used to stabilise cannula following insertion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Triggering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0" y="2453760"/>
            <a:ext cx="4788000" cy="420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While continuing to hold the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bottom part firmly against the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leg, Place 2 fingers of your other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hand under the ‘winged portion’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and the palm of that hand on the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top.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Trigger the BIG by gently , but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Calisto MT"/>
                <a:ea typeface="Tahoma"/>
              </a:rPr>
              <a:t>firmly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pressing down .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Note: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33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sto MT"/>
                <a:ea typeface="Tahoma"/>
              </a:rPr>
              <a:t>Extra force is not required.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0" name="Footer Placeholder 5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1" name="Picture 5" descr="trigger"/>
          <p:cNvPicPr/>
          <p:nvPr/>
        </p:nvPicPr>
        <p:blipFill>
          <a:blip r:embed="rId1"/>
          <a:stretch/>
        </p:blipFill>
        <p:spPr>
          <a:xfrm>
            <a:off x="4500720" y="2637000"/>
            <a:ext cx="4248000" cy="349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Stylet trocar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23640" y="3933360"/>
            <a:ext cx="3809880" cy="15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Pull out the stylet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trocar. Only cannula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remains in the bone.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5" descr="stylet"/>
          <p:cNvPicPr/>
          <p:nvPr/>
        </p:nvPicPr>
        <p:blipFill>
          <a:blip r:embed="rId1"/>
          <a:stretch/>
        </p:blipFill>
        <p:spPr>
          <a:xfrm>
            <a:off x="4857840" y="3357720"/>
            <a:ext cx="4286160" cy="32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Fixation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10920" y="3860280"/>
            <a:ext cx="3809880" cy="15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The safety latch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provides additional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stability. 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0" name="Footer Placeholder 5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Picture 5" descr="fixation"/>
          <p:cNvPicPr/>
          <p:nvPr/>
        </p:nvPicPr>
        <p:blipFill>
          <a:blip r:embed="rId1"/>
          <a:stretch/>
        </p:blipFill>
        <p:spPr>
          <a:xfrm>
            <a:off x="4643280" y="3068640"/>
            <a:ext cx="408636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5837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Perpetua Titling MT"/>
              </a:rPr>
              <a:t>INTRAOSSEOUS ACCES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26920" y="2560320"/>
            <a:ext cx="758376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Penetration of the bone in order to access the intravascular compartmen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Device inserted into medullary cavity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Proximal tibia, distal tibia, proximal humerus, distal radius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Appropriate for adult and paediatric application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Temporising, emergency measure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Aspiration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4100400" cy="42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Venous blood can be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aspirated into a syringe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for laboratory sampling.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Note: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Lack of blood return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does not</a:t>
            </a: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 mean the IO is 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improperly placed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5" descr="aspiration"/>
          <p:cNvPicPr/>
          <p:nvPr/>
        </p:nvPicPr>
        <p:blipFill>
          <a:blip r:embed="rId1"/>
          <a:stretch/>
        </p:blipFill>
        <p:spPr>
          <a:xfrm>
            <a:off x="4716360" y="3068640"/>
            <a:ext cx="4191120" cy="349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Flushing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4495680" cy="378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Flushing 10-20ml (5-10ml in Paediatrics) of saline is recommended before the injection of fluids or drugs.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*In conscious patients-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consider local anaesthesia prior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sto MT"/>
                <a:ea typeface="Tahoma"/>
              </a:rPr>
              <a:t>to administering fluids.</a:t>
            </a:r>
            <a:r>
              <a:rPr b="0" lang="en-GB" sz="1600" spc="-1" strike="noStrike">
                <a:solidFill>
                  <a:srgbClr val="ffffff"/>
                </a:solidFill>
                <a:latin typeface="Calisto MT"/>
                <a:ea typeface="Tahoma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5" descr="flushing"/>
          <p:cNvPicPr/>
          <p:nvPr/>
        </p:nvPicPr>
        <p:blipFill>
          <a:blip r:embed="rId1"/>
          <a:stretch/>
        </p:blipFill>
        <p:spPr>
          <a:xfrm>
            <a:off x="5153040" y="2421000"/>
            <a:ext cx="3990960" cy="40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ahoma"/>
              </a:rPr>
              <a:t>Administration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50560" y="2997000"/>
            <a:ext cx="4319640" cy="45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Fluids and drugs may now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be administered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A pressure infusion cuff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may be required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Calisto MT"/>
                <a:ea typeface="Tahoma"/>
              </a:rPr>
              <a:t>Optiona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Calisto MT"/>
                <a:ea typeface="Tahom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Connect  a stopcock to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the cannula and then use 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  <a:ea typeface="Tahoma"/>
              </a:rPr>
              <a:t>a standard I.V set.</a:t>
            </a:r>
            <a:endParaRPr b="0" lang="en-US" sz="28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65" name="Footer Placeholder 5"/>
          <p:cNvSpPr/>
          <p:nvPr/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5" descr=""/>
          <p:cNvPicPr/>
          <p:nvPr/>
        </p:nvPicPr>
        <p:blipFill>
          <a:blip r:embed="rId1"/>
          <a:stretch/>
        </p:blipFill>
        <p:spPr>
          <a:xfrm>
            <a:off x="4932360" y="3357720"/>
            <a:ext cx="3952800" cy="321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00000" y="2491920"/>
            <a:ext cx="75837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Perpetua Titling MT"/>
              </a:rPr>
              <a:t>Questions and Comment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616896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Perpetua Titling MT"/>
              </a:rPr>
              <a:t>Bone Structure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lnSpc>
                <a:spcPct val="9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Consists of hard outer layer (</a:t>
            </a:r>
            <a:r>
              <a:rPr b="1" lang="en-AU" sz="2000" spc="-1" strike="noStrike">
                <a:solidFill>
                  <a:srgbClr val="333333"/>
                </a:solidFill>
                <a:latin typeface="Calisto MT"/>
              </a:rPr>
              <a:t>cortex</a:t>
            </a: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Covers fatty tissue, marrow and nerves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Covers vascular cancellous bone at </a:t>
            </a:r>
            <a:r>
              <a:rPr b="1" lang="en-AU" sz="2000" spc="-1" strike="noStrike" u="sng">
                <a:solidFill>
                  <a:srgbClr val="333333"/>
                </a:solidFill>
                <a:uFillTx/>
                <a:latin typeface="Calisto MT"/>
              </a:rPr>
              <a:t>distal ends</a:t>
            </a: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 of long bone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33"/>
                </a:solidFill>
                <a:latin typeface="Calisto MT"/>
              </a:rPr>
              <a:t>Vascular access by needle insertion into cancellous bone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5" name=""/>
          <p:cNvSpPr/>
          <p:nvPr/>
        </p:nvSpPr>
        <p:spPr>
          <a:xfrm>
            <a:off x="755640" y="4076640"/>
            <a:ext cx="7583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4076640"/>
            <a:ext cx="7583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5640" y="4076640"/>
            <a:ext cx="7583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Text Placeholder 2" descr=""/>
          <p:cNvPicPr/>
          <p:nvPr/>
        </p:nvPicPr>
        <p:blipFill>
          <a:blip r:embed="rId1"/>
          <a:stretch/>
        </p:blipFill>
        <p:spPr>
          <a:xfrm>
            <a:off x="3130560" y="4052880"/>
            <a:ext cx="2879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  <p:pic>
        <p:nvPicPr>
          <p:cNvPr id="530" name="Text Placeholder 2" descr=""/>
          <p:cNvPicPr/>
          <p:nvPr/>
        </p:nvPicPr>
        <p:blipFill>
          <a:blip r:embed="rId2"/>
          <a:stretch/>
        </p:blipFill>
        <p:spPr>
          <a:xfrm>
            <a:off x="2556000" y="620640"/>
            <a:ext cx="27414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5837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Indication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76000" y="3141360"/>
            <a:ext cx="6504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Difficult or impossible IV Access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Appropriate for Adult or Paediatric application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Urgent requirement for fluid and/or drug administration (Cardiac Arrest, Hypovolaemia, Shock)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219564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5280" y="1557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Perpetua Titling MT"/>
              </a:rPr>
              <a:t>CONTRAINDICATION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71280" y="292392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Calisto MT"/>
              </a:rPr>
              <a:t>Infection at insertion site</a:t>
            </a: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Calisto MT"/>
              </a:rPr>
              <a:t>Local fracture</a:t>
            </a: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Calisto MT"/>
              </a:rPr>
              <a:t>Existing trauma at insertion site</a:t>
            </a: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Calisto MT"/>
              </a:rPr>
              <a:t>Same bone osteomyelitis</a:t>
            </a: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Calisto MT"/>
              </a:rPr>
              <a:t>Ipsilateral femoral fracture</a:t>
            </a: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Calisto MT"/>
              </a:rPr>
              <a:t>Osteogenesis imperfecta</a:t>
            </a: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Calisto MT"/>
              </a:rPr>
              <a:t>Recent prior attempt in same bone</a:t>
            </a: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Calisto MT"/>
              </a:rPr>
              <a:t>Osteporosis</a:t>
            </a:r>
            <a:endParaRPr b="0" lang="en-US" sz="16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Perpetua Titling MT"/>
              </a:rPr>
              <a:t>Complications</a:t>
            </a:r>
            <a:br>
              <a:rPr sz="4800"/>
            </a:br>
            <a:r>
              <a:rPr b="0" lang="en-AU" sz="1800" spc="-1" strike="noStrike">
                <a:solidFill>
                  <a:srgbClr val="ffffff"/>
                </a:solidFill>
                <a:latin typeface="Perpetua Titling MT"/>
              </a:rPr>
              <a:t>(Generic for all devices)</a:t>
            </a:r>
            <a:endParaRPr b="0" lang="en-US" sz="1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55280" y="278100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Compartment Syndrome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Osteomyelitis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Local tissue infection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Pain (most often with fluid infusion in awake patient)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alisto MT"/>
              </a:rPr>
              <a:t>Malplacemen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5837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Bone Injection Gun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55280" y="3428640"/>
            <a:ext cx="3714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Two devices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0000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sto MT"/>
              </a:rPr>
              <a:t>Blue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= Adults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ff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sto MT"/>
              </a:rPr>
              <a:t>Red</a:t>
            </a: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 = Paediatrics</a:t>
            </a:r>
            <a:r>
              <a:rPr b="0" lang="en-US" sz="2000" spc="-1" strike="noStrike">
                <a:solidFill>
                  <a:srgbClr val="ffffff"/>
                </a:solidFill>
                <a:latin typeface="Calisto MT"/>
              </a:rPr>
              <a:t> (0-12 years)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542" name="Text Placeholder 2" descr=""/>
          <p:cNvPicPr/>
          <p:nvPr/>
        </p:nvPicPr>
        <p:blipFill>
          <a:blip r:embed="rId1"/>
          <a:stretch/>
        </p:blipFill>
        <p:spPr>
          <a:xfrm>
            <a:off x="5292720" y="2708280"/>
            <a:ext cx="2476440" cy="1809720"/>
          </a:xfrm>
          <a:prstGeom prst="rect">
            <a:avLst/>
          </a:prstGeom>
          <a:ln w="0">
            <a:noFill/>
          </a:ln>
        </p:spPr>
      </p:pic>
      <p:pic>
        <p:nvPicPr>
          <p:cNvPr id="543" name="Text Placeholder 2" descr=""/>
          <p:cNvPicPr/>
          <p:nvPr/>
        </p:nvPicPr>
        <p:blipFill>
          <a:blip r:embed="rId2"/>
          <a:stretch/>
        </p:blipFill>
        <p:spPr>
          <a:xfrm>
            <a:off x="5292720" y="4797360"/>
            <a:ext cx="2476440" cy="18097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6877080" y="0"/>
            <a:ext cx="2266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4:15:39Z</dcterms:created>
  <dc:creator> </dc:creator>
  <dc:description/>
  <dc:language>en-US</dc:language>
  <cp:lastModifiedBy>End User</cp:lastModifiedBy>
  <dcterms:modified xsi:type="dcterms:W3CDTF">2011-08-25T00:52:36Z</dcterms:modified>
  <cp:revision>106</cp:revision>
  <dc:subject/>
  <dc:title>Bone Injection Gun – B.I.G.</dc:title>
</cp:coreProperties>
</file>